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070-3595-4DEF-89A6-3B2CE19C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FD30-CFEF-47D1-B09D-DD0FDB9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023-159A-46A6-B9C4-0CBCD5B6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300-BEFD-4C3A-873D-2BC3FDA2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DEF-F61E-4061-BCDA-7DC00B3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3D6-12F3-4BE2-9F70-F0AD5E9B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239-4926-4F32-9A76-318C613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7BA-AAAE-4926-93C8-384DDC14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C4C-6F8A-431F-A793-BA4E56B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CEC-587B-459E-B6AB-42C21CA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263-B871-4BCE-8DD9-ABC47D3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ADC-D8EB-424C-999D-198C3A6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3BB6-0AE8-4A88-B819-A2A9BE42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371600" y="0"/>
          <a:ext cx="51814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0"/>
                    <a:ext cx="518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6553080" y="0"/>
          <a:ext cx="25909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0"/>
                    <a:ext cx="2590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0" y="0"/>
          <a:ext cx="137160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1371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0 Quick Re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 so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520" y="40384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JD KCL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"/>
          <p:cNvPicPr/>
          <p:nvPr/>
        </p:nvPicPr>
        <p:blipFill>
          <a:blip r:embed="rId1"/>
          <a:stretch/>
        </p:blipFill>
        <p:spPr>
          <a:xfrm>
            <a:off x="3429000" y="6248520"/>
            <a:ext cx="2378160" cy="409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"/>
          <p:cNvPicPr/>
          <p:nvPr/>
        </p:nvPicPr>
        <p:blipFill>
          <a:blip r:embed="rId2"/>
          <a:stretch/>
        </p:blipFill>
        <p:spPr>
          <a:xfrm>
            <a:off x="6400800" y="54864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"/>
          <p:cNvPicPr/>
          <p:nvPr/>
        </p:nvPicPr>
        <p:blipFill>
          <a:blip r:embed="rId3"/>
          <a:stretch/>
        </p:blipFill>
        <p:spPr>
          <a:xfrm>
            <a:off x="228600" y="5867280"/>
            <a:ext cx="13651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4"/>
          <a:stretch/>
        </p:blipFill>
        <p:spPr>
          <a:xfrm>
            <a:off x="3962520" y="51814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"/>
          <p:cNvPicPr/>
          <p:nvPr/>
        </p:nvPicPr>
        <p:blipFill>
          <a:blip r:embed="rId5"/>
          <a:stretch/>
        </p:blipFill>
        <p:spPr>
          <a:xfrm>
            <a:off x="6934320" y="61308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6"/>
          <a:stretch/>
        </p:blipFill>
        <p:spPr>
          <a:xfrm>
            <a:off x="838080" y="5410080"/>
            <a:ext cx="2266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3352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eaching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ndon </a:t>
            </a:r>
            <a:r>
              <a:rPr b="0" lang="en-US" sz="6600" spc="-1" strike="noStrike">
                <a:solidFill>
                  <a:srgbClr val="ff0101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0101"/>
                </a:solidFill>
                <a:latin typeface="Times New Roman"/>
              </a:rPr>
              <a:t>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101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of differ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=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“Albert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‘Alber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e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e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lo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tance = 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o not have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guesses a variable’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you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value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hang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variable, just by changing its value, or by using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101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ace in a string is counted from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trings can be indexed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[3]    returns the FOURTH letter of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Margaret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0]   returns  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“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sliced     name[2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William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[1,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concatenated   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hello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3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ello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 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‘worl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print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 (“hello,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 ‘fancy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 “meeting 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”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+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” her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ype of quotation mark MATTERS; can be either but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MUST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(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“world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returns the number of characters (including spaces and punctuation) in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2514600"/>
            <a:ext cx="3276720" cy="1600200"/>
          </a:xfrm>
          <a:prstGeom prst="wedgeRectCallout">
            <a:avLst>
              <a:gd name="adj1" fmla="val -78486"/>
              <a:gd name="adj2" fmla="val 51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with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 concatenated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variables can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 br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685800"/>
            <a:ext cx="1828800" cy="1752480"/>
          </a:xfrm>
          <a:prstGeom prst="wedgeRectCallout">
            <a:avLst>
              <a:gd name="adj1" fmla="val 18314"/>
              <a:gd name="adj2" fmla="val 77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print a list including an integer but you can only concatenate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101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=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What’s your name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alue can be assigned by user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board input is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=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How many years old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=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e = 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inp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How many children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962520"/>
            <a:ext cx="4572000" cy="457200"/>
          </a:xfrm>
          <a:prstGeom prst="wedgeRectCallout">
            <a:avLst>
              <a:gd name="adj1" fmla="val -61217"/>
              <a:gd name="adj2" fmla="val 6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 age changes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5257800"/>
            <a:ext cx="6019920" cy="762120"/>
          </a:xfrm>
          <a:prstGeom prst="wedgeRectCallout">
            <a:avLst>
              <a:gd name="adj1" fmla="val -22944"/>
              <a:gd name="adj2" fmla="val -69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of a function, age has type integer, and the input is changed into an integer before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101"/>
                </a:solidFill>
                <a:latin typeface="Arial"/>
              </a:rPr>
              <a:t>!!!Misconception aler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 is assignment    == is eq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exing string starts from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[</a:t>
            </a:r>
            <a:r>
              <a:rPr b="0" lang="en-GB" sz="3200" spc="-1" strike="noStrike">
                <a:solidFill>
                  <a:srgbClr val="ff00ff"/>
                </a:solidFill>
                <a:latin typeface="Arial"/>
              </a:rPr>
              <a:t>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tring)] doesn’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len(string)-1 is the last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ing [3,5]  includes string[3] but NOT string[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board input is a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101"/>
                </a:solidFill>
                <a:latin typeface="Arial"/>
              </a:rPr>
              <a:t>Ways to teach this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 of programs to write ~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programs to see and explain what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s to explain and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with a simple program and increasing its complexity… step b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2286000"/>
            <a:ext cx="2895480" cy="533520"/>
          </a:xfrm>
          <a:prstGeom prst="wedgeRectCallout">
            <a:avLst>
              <a:gd name="adj1" fmla="val -67106"/>
              <a:gd name="adj2" fmla="val 114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me exerci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419720"/>
            <a:ext cx="2210040" cy="533160"/>
          </a:xfrm>
          <a:prstGeom prst="wedgeRectCallout">
            <a:avLst>
              <a:gd name="adj1" fmla="val 12356"/>
              <a:gd name="adj2" fmla="val -186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har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85800"/>
            <a:ext cx="1447560" cy="838080"/>
          </a:xfrm>
          <a:prstGeom prst="wedgeRectCallout">
            <a:avLst>
              <a:gd name="adj1" fmla="val -23027"/>
              <a:gd name="adj2" fmla="val 76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halle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3048120"/>
            <a:ext cx="2666880" cy="380880"/>
          </a:xfrm>
          <a:prstGeom prst="wedgeRectCallout">
            <a:avLst>
              <a:gd name="adj1" fmla="val -5773"/>
              <a:gd name="adj2" fmla="val -123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t them in the dro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3T15:14:08Z</dcterms:created>
  <dc:creator>Margaret deJ Derrington</dc:creator>
  <dc:description/>
  <dc:language>en-US</dc:language>
  <cp:lastModifiedBy>Margaret deJ Derrington</cp:lastModifiedBy>
  <dcterms:modified xsi:type="dcterms:W3CDTF">2014-07-31T01:28:00Z</dcterms:modified>
  <cp:revision>5</cp:revision>
  <dc:subject/>
  <dc:title>Slide 1</dc:title>
</cp:coreProperties>
</file>